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wmf" ContentType="image/x-wmf"/>
  <Override PartName="/ppt/media/image1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13.png" ContentType="image/png"/>
  <Override PartName="/ppt/media/jep3.wav" ContentType="audio/x-wav"/>
  <Override PartName="/ppt/media/image8.gif" ContentType="image/gif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F4E-138C-4093-89FA-0731C2CE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392-19DD-4467-A6B6-BD734699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2AA9-473E-4080-866B-4E92E5E3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7BC-E239-42B5-8C9A-9FEBC7BC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C8C-CC83-4D52-83BE-52533AF9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E4B-8247-4986-804A-45FF7C61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E64-9CDB-4D64-871D-D66C05C1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8EB-04F4-4D53-97D3-22E904AD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CB8-EE98-4FF9-9407-F055B792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962-EEAB-4399-87B1-FA9EB83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2F6-50EE-49F3-B399-3CC054F6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88D-BA44-4D76-B5A8-AA580ED3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A002-D1E9-465D-95D9-B2BD55F5D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44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“dangerous” legislation lists animals, plants and m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4479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ummer dude, this a negative affect on humans if we lose different species. </a:t>
            </a:r>
            <a:r>
              <a:rPr b="0" lang="en-US" sz="5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one way in which biodiversity can be preserv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14400"/>
            <a:ext cx="91440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ey you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ncrease has had the most negative effect on the ecosystems of the Eart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952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semi-permeable layer separates a cell from its neighbo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2193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cells use chemical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lled neurotransmitter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“jump the gap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2952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chemicals produced by endocrine glands control other parts of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44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ike antennae, these molecules allow a cell to receive sign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858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Just ask your Aunt, White Blood cells can tell “friend or foe” based upon these protei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xygen, glucose, and wastes move in this high to low fl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2133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“uphill battle” moves substances such as Ca from low to high areas of concentr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79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“micro-fold” enables you to absorb your nutrients more efficiently in the small intesti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6002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change in content of the blood goes from this to this in the microscopic air sacs known as alveoli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66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vascular tubes of the tracheophytes &amp; their directions of flow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6858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reproductive structure is only found in animals with internal fertiliz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known as the release of the egg from the ovar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380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 addition to sex hormones, these structures produce the male gametes and female gametes respectivel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ither of the tw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urgical procedur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t interfere with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transf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f sperm from the ma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the fema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371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roduction of these 4 hormones controls the menstrual cycl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9072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819920" y="685800"/>
            <a:ext cx="1324080" cy="1371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200400" y="11430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s are talki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990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Keep on truckin’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In the Wo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11430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iants &amp; dwar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143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et’s talk about s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76520" y="12193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Human Impac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5238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obbit, giant, dwarf, wizard or elf. Either too much or too little of this horm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57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cromegaly (gigantism) &amp; dwarfism are due to a problem with this “master gland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295280"/>
            <a:ext cx="91440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roduction of a hormone is usually stopped once enough of it is produced.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dynamic equilibrium is often referred to as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Gigantic thyroid is a failure of homeostasi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condition is caused by a lack of iodine in the di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9907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be Lincoln, Andre the Giant &amp; Mini Me all had this part of the brain that is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ue master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of the master glan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1981080"/>
            <a:ext cx="7162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tural Sele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762120"/>
            <a:ext cx="914400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problem with pests is pesticides.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xplain why this statement is true today for mosquitoes, rats, or invasive speci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nsitive pests are killed by the chem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. Resistant pests survive &amp; reproduce (are better adapt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. Offspring have resistance to the chemic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. Resistant pests increase in popul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Zygo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.K.A. the fertilized eg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½ of your DNA comes from each pa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04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eavage, mitosis, differentiation, or gastrul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72464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terus or amnion (amniotic sac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676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iodiversity or commun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ndangered Species A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066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moking/drinking during pregnancy, chemicals, pollution, radiation, poor nutrition, or drug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7524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nstable ecosystems, loss of cures/medicine, loss of food, loss of beauty/inspi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523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strict hunting, stop development, reintroduce species, establish parks/nature preserves, protect spec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uman Pop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52388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ell membran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lasma membra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066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“whole” truth &amp; nothing but the truth, this is why your genetic content differs from mom &amp; dad’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143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erve cells or neur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neuron" descr=""/>
          <p:cNvPicPr/>
          <p:nvPr/>
        </p:nvPicPr>
        <p:blipFill>
          <a:blip r:embed="rId2"/>
          <a:stretch/>
        </p:blipFill>
        <p:spPr>
          <a:xfrm>
            <a:off x="1676520" y="2057400"/>
            <a:ext cx="609588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Horm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71600" y="8380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ceptor molecu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cell%20membrane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213372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tige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ctive Transpo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9144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Villi (Villu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villi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4495680" cy="4141800"/>
          </a:xfrm>
          <a:prstGeom prst="rect">
            <a:avLst/>
          </a:prstGeom>
          <a:ln w="0">
            <a:noFill/>
          </a:ln>
        </p:spPr>
      </p:pic>
      <p:pic>
        <p:nvPicPr>
          <p:cNvPr id="322" name="villi" descr=""/>
          <p:cNvPicPr/>
          <p:nvPr/>
        </p:nvPicPr>
        <p:blipFill>
          <a:blip r:embed="rId3"/>
          <a:stretch/>
        </p:blipFill>
        <p:spPr>
          <a:xfrm>
            <a:off x="5105520" y="2133720"/>
            <a:ext cx="3763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eoxygenated to Oxygenat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gas%20exchange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17220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29528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Xylem &amp; phlo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Xy up high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hloe down l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5880" y="2590920"/>
            <a:ext cx="533520" cy="609480"/>
          </a:xfrm>
          <a:prstGeom prst="upArrow">
            <a:avLst>
              <a:gd name="adj1" fmla="val 50000"/>
              <a:gd name="adj2" fmla="val 2855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0" y="3886200"/>
            <a:ext cx="685800" cy="762120"/>
          </a:xfrm>
          <a:prstGeom prst="down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38088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en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rcRect l="21116" t="8333" r="0" b="0"/>
          <a:stretch/>
        </p:blipFill>
        <p:spPr>
          <a:xfrm>
            <a:off x="1905120" y="1447920"/>
            <a:ext cx="541008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e of the developmental processes that changes a fertilized egg into an embry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v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58120" y="1828800"/>
            <a:ext cx="47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estes &amp; ova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rcRect l="45559" t="8333" r="14444" b="0"/>
          <a:stretch/>
        </p:blipFill>
        <p:spPr>
          <a:xfrm>
            <a:off x="457200" y="1295280"/>
            <a:ext cx="2743200" cy="5137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rcRect l="42800" t="0" r="7605" b="40364"/>
          <a:stretch/>
        </p:blipFill>
        <p:spPr>
          <a:xfrm>
            <a:off x="4191120" y="1600200"/>
            <a:ext cx="3886200" cy="44956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Vasectomy or tubal lig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685800" cy="99036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2971800"/>
            <a:ext cx="685800" cy="9907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581280"/>
            <a:ext cx="685800" cy="9907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352680"/>
            <a:ext cx="685800" cy="99072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457200"/>
            <a:ext cx="9144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stro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rogester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uteinizing Hormone (LH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ollicle Stimulating Hormone (FSH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rowth Horm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45720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ituita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632040" cy="52578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Mini Me!"/>
          <p:cNvPicPr/>
          <p:nvPr/>
        </p:nvPicPr>
        <p:blipFill>
          <a:blip r:embed="rId2"/>
          <a:stretch/>
        </p:blipFill>
        <p:spPr>
          <a:xfrm>
            <a:off x="2819520" y="2666880"/>
            <a:ext cx="9586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533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oi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572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ypothalam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447920" y="1828800"/>
          <a:ext cx="6019560" cy="3841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01956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00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structure in which fetal development usually occu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10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ot a light?” These are 2 factors that can affect fetal developm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60" y="1352160"/>
            <a:ext cx="9081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ey Biologist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the term for the vario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ganisms in a given ecosyste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42:49Z</dcterms:modified>
  <cp:revision>82</cp:revision>
  <dc:subject/>
  <dc:title>June 16 Jeopardy</dc:title>
</cp:coreProperties>
</file>